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1880-7F01-4E5F-BFF1-80CE7AE84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684A-7340-41B2-A1C8-960C59144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E5C0-39C0-4A4D-99A8-3A27780F1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C1EF-23F2-4F7E-99B5-F0104A14D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4923-311C-4651-8A29-1BCFFD5D0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5DB0-9E7B-4BD1-A385-7FDB0527A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B1C4-434C-40F2-9539-78FC2C9B1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79FF-6D0E-4AD4-B779-528A28194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FCD3-A6AA-4ED0-9CFB-DD3AF770A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24DC-4E7A-41E5-915A-9A7BDA31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BEAC-446A-428C-9273-00C995F3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F569-4038-4583-991E-A8D6C1CB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4E533-89FD-4AC1-9F8D-C8B2B6D6A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733920" y="2209680"/>
            <a:ext cx="43434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rook Trou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04920" y="6095880"/>
            <a:ext cx="53337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Pennsylvania Trout in the Classroom Project</a:t>
            </a:r>
            <a:endParaRPr b="0" lang="en-US" sz="1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523880" y="152280"/>
            <a:ext cx="51818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Trout in the Classro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26668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3124080"/>
            <a:ext cx="4038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ising Brook Trout In the classroom shows us that all fish live differently.  They also teach us about coldwater conservation while raising brook trout from eggs to fingerlings in a classroom aquari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2057400"/>
            <a:ext cx="670572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udents Will Develop a connection from the classroom aquariums to ecosyste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onitor and record water quality and trout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cognize trout as an “indicator speci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ngage in conservation-oriented, community programs and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evelop an appreciation of coldwater con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52280" y="152280"/>
            <a:ext cx="5791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bout Trout in the Classroom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Make us more knowledgeable about underwater animals in 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Get our Community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733920" y="533520"/>
            <a:ext cx="21333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oal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FBC / PATU Partner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we 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 As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g and Trout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Difficult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Not all of the fish will surv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Hard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A lot of Responsibility is required through out the pro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8320" y="228600"/>
            <a:ext cx="41907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Important Poin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52280" y="0"/>
            <a:ext cx="35053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ntac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1828800"/>
            <a:ext cx="4419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s. Sherry Morgan &amp; Dr. John Org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.S. Fish and Wildlife Serv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0 Westgate Center Dr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dley, MA 01035-958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52880" y="3505320"/>
            <a:ext cx="28195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ants/Partn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borah Nardon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 TU(814)-359-52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5T12:20:50Z</dcterms:created>
  <dc:creator>smrosetti13</dc:creator>
  <dc:description/>
  <dc:language>en-US</dc:language>
  <cp:lastModifiedBy>smrosetti13</cp:lastModifiedBy>
  <dcterms:modified xsi:type="dcterms:W3CDTF">2009-06-02T12:30:01Z</dcterms:modified>
  <cp:revision>4</cp:revision>
  <dc:subject/>
  <dc:title>Slide 1</dc:title>
</cp:coreProperties>
</file>