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A9E4-736E-4096-9942-AAE7ECE88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294B-4764-4F4F-87F1-5FCCFE93C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C53B-DBDB-41AB-A4F3-D12078F80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F99F-3D2C-4D06-A6D2-D7A1AD36B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3A92-9EB7-4B79-A92F-4942A0786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6D16-C670-46C7-9950-B3AA2A95E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0021-896A-4728-895D-CC5CD3C2F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7346-43B0-4C82-9835-19B21ED2C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ABCE-128D-4B87-8518-902B6D6C6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DFAC-354D-4590-B5D4-EE9B99D1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E1FC-6316-472B-BF49-74E97A01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2D54-C820-41CC-BAE3-250213CD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BE6A0-6202-499A-8EA7-63110D862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733920" y="2209680"/>
            <a:ext cx="43434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rook Trou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04920" y="6095880"/>
            <a:ext cx="53337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Pennsylvania Trout in the Classroom Project</a:t>
            </a:r>
            <a:endParaRPr b="0" lang="en-US" sz="1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523880" y="152280"/>
            <a:ext cx="51818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Trout in the Classro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26668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3124080"/>
            <a:ext cx="4038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ising Brook Trout In the classroom shows us that all fish live differently.  They also teach us about coldwater conservation while raising brook trout from eggs to fingerlings in a classroom aquari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2057400"/>
            <a:ext cx="670572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udents Will Develop a connection from the classroom aquariums to ecosyste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onitor and record water quality and trout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cognize trout as an “indicator speci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ngage in conservation-oriented, community programs and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evelop an appreciation of coldwater con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52280" y="152280"/>
            <a:ext cx="5791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bout Trout in the Classroom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Make us more knowledgeable about underwater animals in 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Get our Community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733920" y="533520"/>
            <a:ext cx="21333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oal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FBC / PATU Partner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we 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 As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g and Trout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Difficult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Not all of the fish will surv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Hard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A lot of Responsibility is required through out the pro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8320" y="228600"/>
            <a:ext cx="41907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Important Poin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52280" y="0"/>
            <a:ext cx="35053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ntac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1828800"/>
            <a:ext cx="4419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s. Sherry Morgan &amp; Dr. John Org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.S. Fish and Wildlife Serv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0 Westgate Center Dr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dley, MA 01035-958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52880" y="3505320"/>
            <a:ext cx="28195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ants/Partn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borah Nardon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 TU(814)-359-52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5T12:20:50Z</dcterms:created>
  <dc:creator>smrosetti13</dc:creator>
  <dc:description/>
  <dc:language>en-US</dc:language>
  <cp:lastModifiedBy>smrosetti13</cp:lastModifiedBy>
  <dcterms:modified xsi:type="dcterms:W3CDTF">2009-06-02T12:30:01Z</dcterms:modified>
  <cp:revision>4</cp:revision>
  <dc:subject/>
  <dc:title>Slide 1</dc:title>
</cp:coreProperties>
</file>