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1EC2-1017-4ECC-8664-69FC712B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E33-E829-4393-9CBB-AD49DA2D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A84-C5C5-48A3-BE1C-AA9E5AA6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D4B-C56E-4EC6-89BF-BC33EE0D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E4D-7A37-45CC-BB40-A7A54D20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D66-86D4-4BFA-87F4-CD7EBBAE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A42-568D-4FB4-8877-065ECDB6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E4F-3FBC-4270-BD7D-76FD3AA4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FEE-F8E1-4DD5-ACDD-A6D03B73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838-A496-4913-B6BD-AF3E87E9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9C7-631C-4642-A109-CE39AC74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310-2407-44BC-983A-21F38DDF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0490-8D09-46B4-A40C-F2F24D0AF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33920" y="2209680"/>
            <a:ext cx="434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ook Trou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6095880"/>
            <a:ext cx="5333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nnsylvania Trout in the Classroom Project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23880" y="152280"/>
            <a:ext cx="5181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rout in the Classro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6668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12408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ing Brook Trout In the classroom shows us that all fish live differently.  They also teach us about coldwater conservation while raising brook trout from eggs to fingerlings in a classroom 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057400"/>
            <a:ext cx="6705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udents Will Develop a connection from the classroom aquariums to eco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itor and record water quality and tro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gnize trout as an “indicator spec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gage in conservation-oriented, community programs an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velop an appreciation of coldwater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5228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bout Trout in the Classro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ake us more knowledgeable about underwater animals in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et our Communit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33920" y="53352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BC / PATU 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and Trou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ifficul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Not all of the fish will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ar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lot of Responsibility is required through out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228600"/>
            <a:ext cx="419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mportant Poi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0"/>
            <a:ext cx="3505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8288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s. Sherry Morgan &amp; Dr. John Or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Fish and Wildlife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Westgate Center D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dley, MA 01035-95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50532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nts/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orah Nardo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 TU(814)-359-52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2:20:50Z</dcterms:created>
  <dc:creator>smrosetti13</dc:creator>
  <dc:description/>
  <dc:language>en-US</dc:language>
  <cp:lastModifiedBy>smrosetti13</cp:lastModifiedBy>
  <dcterms:modified xsi:type="dcterms:W3CDTF">2009-06-02T12:24:51Z</dcterms:modified>
  <cp:revision>4</cp:revision>
  <dc:subject/>
  <dc:title>Slide 1</dc:title>
</cp:coreProperties>
</file>