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236-F962-4E60-A90B-51F33C3D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03E-67F3-40CF-8C60-440170F9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7AD1-5B2C-458C-95A3-026A698F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2EA-FBEB-4C2B-A88F-F8D0A0B3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900-4F91-4ACF-965A-17C835F9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40A-E6E0-4ED6-8F11-F961A844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8EA-3EEC-4B61-8BCF-E72BFFB5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F0F-09B6-4888-85D0-B6BB12A8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5D7-F57C-47A9-BF68-15F68B90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68A-B1CE-4DB3-B368-9C6BCF86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AF2-E80F-4D5D-98B3-3F636E9C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1CA-76A2-4794-8360-345FC5B2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3259-2CDE-4CB1-8854-848A2265C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33920" y="2209680"/>
            <a:ext cx="434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ook Trou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6095880"/>
            <a:ext cx="5333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nnsylvania Trout in the Classroom Project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23880" y="152280"/>
            <a:ext cx="5181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rout in the Classro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6668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12408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ing Brook Trout In the classroom shows us that all fish live differently.  They also teach us about coldwater conservation while raising brook trout from eggs to fingerlings in a classroom 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057400"/>
            <a:ext cx="6705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udents Will Develop a connection from the classroom aquariums to eco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itor and record water quality and tro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gnize trout as an “indicator spec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gage in conservation-oriented, community programs an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velop an appreciation of coldwater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5228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bout Trout in the Classro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ake us more knowledgeable about underwater animals in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et our Communit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33920" y="53352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BC / PATU 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and Trou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ifficul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Not all of the fish will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ar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lot of Responsibility is required through out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228600"/>
            <a:ext cx="419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mportant Poi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0"/>
            <a:ext cx="3505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8288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s. Sherry Morgan &amp; Dr. John Or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Fish and Wildlife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Westgate Center D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dley, MA 01035-95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50532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nts/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orah Nardo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 TU(814)-359-52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2:20:50Z</dcterms:created>
  <dc:creator>smrosetti13</dc:creator>
  <dc:description/>
  <dc:language>en-US</dc:language>
  <cp:lastModifiedBy>smrosetti13</cp:lastModifiedBy>
  <dcterms:modified xsi:type="dcterms:W3CDTF">2009-06-02T12:24:51Z</dcterms:modified>
  <cp:revision>4</cp:revision>
  <dc:subject/>
  <dc:title>Slide 1</dc:title>
</cp:coreProperties>
</file>