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FE9-47D6-40E6-AAD5-F568E7A1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377-9F65-49DB-BD5E-A0817689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298-5FDC-4608-9C1C-CA19A5D4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3F7-4AAC-430E-8E60-A206F1D5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182-B9D0-4369-88B8-31459C3E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FD1-0A1B-495D-8836-77C53717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DA8-9077-416D-BE19-3DE14868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4DB-4557-4E8B-AD5D-FD819D3A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552-DFA5-4500-BA42-3D3F02E7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EDB-D152-46BA-A241-818520B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F33-710E-4C2A-AA2B-9194CE77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49A-4595-4F01-ACA2-50A0F10E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B442-A251-441B-AE0C-B5E89BFB5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22096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ook Trou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6095880"/>
            <a:ext cx="533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nsylvania Trout in the Classroom Project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3880" y="15228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rout in the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1240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ing Brook Trout In the classroom shows us that all fish live differently.  They also teach us about coldwater conservation while raising brook trout from eggs to fingerlings in a classroom 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057400"/>
            <a:ext cx="6705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udents Will Develop a connection from the classroom aquariums to eco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itor and record water quality and tro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gnize trout as an “indicator spec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gage in conservation-oriented, community program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 an appreciation of coldwate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522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bout Trout in the Classro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us more knowledgeable about underwater animals in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t our Communit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33920" y="533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BC / PATU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and Trou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ifficul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Not all of the fish w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lot of Responsibility is required through out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t Poi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0"/>
            <a:ext cx="3505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. Sherry Morgan &amp; Dr. John Or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Fish and Wildlif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Westgate Center D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ley, MA 01035-95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5053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/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orah Nard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TU(814)-359-5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20:50Z</dcterms:created>
  <dc:creator>smrosetti13</dc:creator>
  <dc:description/>
  <dc:language>en-US</dc:language>
  <cp:lastModifiedBy>smrosetti13</cp:lastModifiedBy>
  <dcterms:modified xsi:type="dcterms:W3CDTF">2009-06-02T12:24:51Z</dcterms:modified>
  <cp:revision>4</cp:revision>
  <dc:subject/>
  <dc:title>Slide 1</dc:title>
</cp:coreProperties>
</file>