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C2D-E474-4B35-8BE0-C5764459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B80-4EAB-4A22-9373-AD8C54F7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7C6-B666-4C83-9255-395E73C3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746-F2EB-4B5F-8036-230200BA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D25-F466-453B-9836-0C2230F6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CF1-8F6E-490D-8A39-91D014D4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FDE-4CED-4AE5-B4E5-ED2F77D8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150-AB70-4035-A4CE-2E2DA5E5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1C9-1D39-4C86-B754-48B4DDD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6E1-A030-4B16-B783-4BE0CFB1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EFC-4B6D-4843-97AE-DEE944DE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A26-8A5F-467A-B785-9D569CAE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1214-8548-41D0-A2BF-AE442915A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22096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ook Trou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6095880"/>
            <a:ext cx="533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nsylvania Trout in the Classroom Project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3880" y="15228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rout in the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1240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ing Brook Trout In the classroom shows us that all fish live differently.  They also teach us about coldwater conservation while raising brook trout from eggs to fingerlings in a classroom 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057400"/>
            <a:ext cx="6705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udents Will Develop a connection from the classroom aquariums to eco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itor and record water quality and tro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gnize trout as an “indicator spec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gage in conservation-oriented, community program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 an appreciation of coldwate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522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bout Trout in the Classro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us more knowledgeable about underwater animals in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t our Communit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33920" y="533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BC / PATU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and Trou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ifficul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Not all of the fish w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lot of Responsibility is required through out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t Poi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0"/>
            <a:ext cx="3505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. Sherry Morgan &amp; Dr. John Or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Fish and Wildlif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Westgate Center D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ley, MA 01035-95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5053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/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orah Nard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TU(814)-359-5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20:50Z</dcterms:created>
  <dc:creator>smrosetti13</dc:creator>
  <dc:description/>
  <dc:language>en-US</dc:language>
  <cp:lastModifiedBy>smrosetti13</cp:lastModifiedBy>
  <dcterms:modified xsi:type="dcterms:W3CDTF">2009-06-02T12:24:51Z</dcterms:modified>
  <cp:revision>4</cp:revision>
  <dc:subject/>
  <dc:title>Slide 1</dc:title>
</cp:coreProperties>
</file>